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F4A6-FEB2-44C7-8851-3784503D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ADEB-7F7C-406D-AA58-451563B1A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C7EF-FA6E-4865-BB55-38D0A4FC5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7BEE-BEF3-4455-ADCC-3F47DE138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627C-CDC6-47D8-BD20-EA8C2ED43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A120-19B9-419F-A44B-9E3B63C7E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4DE7-03D4-447A-8076-2AED51D1E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2BA-0C68-490D-993E-39CBEBC64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F18C-4980-4DAD-BF7B-A7E7F6088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FD62A2-B00E-474E-B156-54A1A0AC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DD8AF8-258C-4608-A1DF-1BE466FA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95A27-8826-4FC2-8D42-4829C398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AF22A2-A07F-4BD2-ACFE-F9E662D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AE26B-FC15-411E-BFA6-2B7ECD0D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5A367-5BC3-4A49-8DAB-8D696F02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6CE8AA-454E-4C84-AB6D-D3F0D0FB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FE9F9C-9BDF-4F1F-8AFE-0C626CC7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548D6C-2823-4058-BEDD-F6D45948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BCB23-8796-4B5B-8A60-84974981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C50A88-0E7F-4A61-8855-C2136CC5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0549F-3C46-40CD-AC1C-C58F86B8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244B8-4634-4E28-B83C-3B766D65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412755-83D6-4F44-8344-C4E05646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EA31F-05A7-408A-9AE4-7E4A579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CA533-4E25-4629-9A9B-9C282E3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D29A3-01B9-4A3B-99AF-112278F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D1420-1489-4727-A85E-5160889C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9ACA9B-F654-41C5-BC7F-A7F8A580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9F19D-5448-4C8C-BDD4-C3DF8253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0CCC7-1B99-4D3E-88B9-91EEE668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024664-357D-4318-AB34-AE76886F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ECC587-AEA2-44B7-92E4-C8AE84B7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E250E1-2F7C-414A-B163-5FB19AE5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CC5EFE-3F47-4E61-8802-63B87DF2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40500-3239-4271-9293-BBE4D15E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BBC1B7-AA54-4EE8-B78D-60889C26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B8DBA6-D76E-44C4-A1D3-0E7FE473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CAE682-099A-4CF6-BB1A-76CEDB24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499150-3B06-4892-8936-0D2064B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C6FF6-E89D-4F9B-A733-C71B6D74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3320D9-DF73-46B3-99BA-F61C84A6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FACAAA-ED40-4DA7-9ECF-173E5ED8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97133C-AF1F-4A9A-B014-0F1C05A3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D1A860-2922-43E7-A39A-0AEEC5112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3735E6-A9F3-4C10-A882-43F2E3A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37D2AD-230F-45A5-A2BE-B0E20090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584FA6-E624-41B3-938B-8D41C564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B53893-4D9B-4EC1-AFCF-F9C2739F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EB0C82-9BC0-4F8D-BFBD-06093828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C3000-D268-499F-A4F4-B92705D5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8770B-0BCF-443A-86C7-13B175A9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65F8AB-F752-4344-A59C-32A3131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CDCAA8-3EA7-4D92-B6C3-6DABFDC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527D3C-F8B7-4FE5-B509-6F1823F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14E230-EB62-463A-ABEE-5AF55876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D54853-734A-45A4-BF54-15878816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EEACC-3C2E-4E64-8711-2C9142B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20F9D-8F4F-453C-97DD-A6B73F5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632B5-E656-467D-896B-CA1D4B08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A9BAD-DD35-4304-9056-813BCA7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5E49D-4C22-49D4-BAB7-6D61FC46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3062B-F512-4FAE-8F7E-2F30BB4A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57082-6862-4542-8BD3-6ABF1687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B6E2F-D976-4E84-AE6C-647B3AF3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19B3E-22C4-4C23-BE30-33491F34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D5887-55F3-409B-8601-52D7A275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23311-76E2-41F8-B12B-3BCC7B0D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FC377-CCFC-4A10-94E9-EDA9FDD5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26F97-4D3F-460A-AE9F-5CBAD732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0C5A3-3657-46E3-B126-04A0A7A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D02AA5-5C76-460D-B10B-FFDDB3F0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2ADFA-7412-447A-A58F-EFEDC587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C6915D-9B89-4843-8F91-A20B586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EED77-80F4-4CA1-B5E9-423749FE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8902F-F590-40D8-B7FC-B53D2F9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BB449-867F-4A1B-95BB-D60F9B2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028F5-AD66-42B2-9F75-62AB40BE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5F068-9CB5-49DD-A7E3-C8929980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24ADD-3A39-4DD1-851F-72FF0E07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1D541-3AB0-44E9-A846-30162A95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2B97F0-F464-4FE4-BC65-D0C9736A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3A0392-8EC4-449C-98AB-1FBA018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AF74E-42D3-45A3-AF20-6A5A8E6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6DD8D-F7F0-410B-A9A4-B5AADEA2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E4B289-F907-4021-ABDF-A76B15A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2A3D8-8C65-4E43-87F5-844924C8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9C0CF0-1944-4A8B-B7E2-C6F14B0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907E62-9DF4-4057-A686-9CFF5371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CADB1-10E9-433A-928D-6063F4E5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960AB-7966-4E79-A491-5A32B0F8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AEE8E-51A1-4C01-A5D3-9357461D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B9F54-99C3-4DC5-8D6F-3F9ECE09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F5E13-8F63-4584-BEC4-9CD969A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78DDE-061C-4495-A145-EA95FD3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DD589-DB52-4D6A-8E47-852D7A46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F1240-CE28-4E9E-A53E-43D8B3CF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A3A97-DE5E-4049-B21F-8BA6C57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46556-A2AC-4782-BC3C-7B270303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13829-F466-4E10-BDCE-EE37130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F39365-0B89-445D-AEDF-B3D769F4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3F4F0-D83E-4FD1-8061-AFE25899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FF2DC-CD66-4B48-ADA5-83B55B3A7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DCE8A-832C-48D2-881F-98773D72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BAF96-E0F0-498E-BCDC-166CEF83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CCDEAA-A43C-4F06-B54A-97B3B1D4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FE637-2CD0-44C2-8C6A-218A7A60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5D6EE-2161-4F1B-948E-CD3CDEB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40B29-5BE3-49DE-9347-8F98250B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18657-FF74-4B3C-91CD-F60AF2F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E3852-F3FF-4162-96F5-2B676D1C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3A4A6-9632-47FE-8580-CA58E46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AF1ECA-09CF-437F-A49C-F6E3C267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A13F8F-9A3F-4C1C-AC9D-D53D0A92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9B7E0-37EB-499A-B2F2-00C50426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9B66D-0F9F-4256-B495-9D37DE94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4E52F-C7C2-4BE5-8733-3FDB5CAE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0236DB-44A4-4BE2-BF29-70E966A2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29D6DA-A640-4D2D-9417-498474E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EDAF6-B806-466B-8A9D-30E5185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F6962-87B7-42AE-8075-EFA7EC50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B5E47-E88D-46DA-A491-764791A2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2E5C8-CBBC-41C7-B2EE-66A29B2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5581D8-6FE4-428B-8B76-FA100C58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2A61E-3451-4D53-AA47-6226204E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AA2AE-7DE2-4FB6-860F-A58E0E88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33109-6DB3-43D8-B0D6-C3424B91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6D971-1C75-4EA1-AE12-864F2996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7481A8-AA1A-42D6-8BAA-CBF0A25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7EA75-6D17-41F1-B4CB-3C9CA737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2D0A1D-FF3C-4DD8-8886-EAE2144A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9CA4E-285D-4DEE-A1CF-91D49185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EF0F51-DF87-41A1-89EB-9D204356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E52ABB-C93D-49F4-970F-9F89B2C6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03F286-5EB6-4AC6-B9F7-D8F0399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EE2D5F-9F5D-40AF-92B6-50CE837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09EB1C-DD88-43E1-894A-2887D61A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5B4EC7-CB7B-4D0D-8832-1EEBE18B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9FA57-C6B9-4132-AE04-140FAF4F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8C4FB-3DFC-4119-A5B2-99A8D504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3D231-4A0D-4EA2-B43C-10902C5D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2190EF-D4E7-4FD8-BD0D-BDAEEBF3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08ED-0C7F-415F-A8E2-D9BEE6D5030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30C-B778-448F-987D-A6EF5C4E713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EB6F-4104-4E5C-A56A-2ECB8F415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1146-6203-49D0-9119-D52181424F2A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89F-BED4-4213-B72A-94DC483E4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DAA-54AD-46FC-9683-20FB184C80A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90D-ACF1-476D-834D-3FB8F3EB5E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B005-3497-4FFA-866B-F89A3677553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233A-6242-4FC3-B46C-3488719804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7026-DB18-4969-890A-16F1E36D9F9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2294-2856-4E35-935A-98E2D0958F1C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5E59-0BB0-4F7A-BFF1-98741DE470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7954-A95A-4139-9F68-19AAD6D77F69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EA1C-328A-4B7D-8B99-AFE4BAA42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BDE4-09B2-47C8-BB73-B87B908490A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57B-1660-4B68-B9AA-78D63218E5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589-5E9D-4F3F-9F51-EDD9975F08A2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BFF9-9A22-4DB3-A1FE-D361597C0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EB7E-C5A6-43F8-B848-3A80D6F8A09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D59B-9E9C-4DA5-9B30-667E8C5622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A1A2-29E5-47E2-91C0-67A579CD455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C01F-5236-40EA-AE0E-94C4477C00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46784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Opportunities for leveraging with PPP (NAFAKA)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3809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J.Rus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NAFAKA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eans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ject staples value chain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urrently very active rice sector in Kilombero and Mvom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5 Components (in rice sector plan for ma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habilitating value ch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e productivity in the two 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trade and competi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partnerships (ACDI-VOCA, MVIWATA,FIPS, RUDI, C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ing income for vulnerable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ntry point: village level FO: Identify existing or non-exi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o assessment see area for strengthening/develop partnerships: district federated FOS (Apex producer, outgrowers, cooperatives in crop prod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ther-Baby Trials: variety, fertilizer (YAR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grodeal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ost-harvest: Storage, warehouse receipt systems; SAC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arkets (Kibaigwa):  Local assembly, central, bargaining, finance/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5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vestock:  FIPS Chicken vaccinations but sto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-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Baby trials no fertilizer. Mother trials use fertilizer YARA , Minjingu P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Comparative advantage of the CGIAR agricultural systems production research; Contractors (ACDI, Abt) in value ch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rogram document/work plan of AR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SAID wants the two types of implementers to cooperate: Which project goes the credit for the value chain work (not counting twice), once for each pro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valuation is in two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1 Technologies per se using a GxEXMXLX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CTs to go beyond plot level rando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2 delivery value chain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Quasi-experimental approaches (befor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after interventions and with and without interventions i.e. differenc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differences; propensity score matching; Instrumental Variabl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sess the value added NAFAKA/ABT/DAI with and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thout technologies from the CGIARs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fference can be attributed to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alue chain work/agricultural production systems research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209680" y="5638680"/>
            <a:ext cx="838440" cy="419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914400" y="61722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2971800" y="6019920"/>
            <a:ext cx="905040" cy="59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4"/>
          <a:stretch/>
        </p:blipFill>
        <p:spPr>
          <a:xfrm>
            <a:off x="3886200" y="6019920"/>
            <a:ext cx="1219320" cy="519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logo-new"/>
          <p:cNvPicPr/>
          <p:nvPr/>
        </p:nvPicPr>
        <p:blipFill>
          <a:blip r:embed="rId5"/>
          <a:stretch/>
        </p:blipFill>
        <p:spPr>
          <a:xfrm>
            <a:off x="6400800" y="5410080"/>
            <a:ext cx="79704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"/>
          <p:cNvPicPr/>
          <p:nvPr/>
        </p:nvPicPr>
        <p:blipFill>
          <a:blip r:embed="rId6"/>
          <a:stretch/>
        </p:blipFill>
        <p:spPr>
          <a:xfrm>
            <a:off x="152280" y="5638680"/>
            <a:ext cx="1133640" cy="534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5181480" y="5334120"/>
            <a:ext cx="1089000" cy="129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8"/>
          <a:stretch/>
        </p:blipFill>
        <p:spPr>
          <a:xfrm>
            <a:off x="7162920" y="563868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3T11:32:23Z</dcterms:modified>
  <cp:revision>867</cp:revision>
  <dc:subject/>
  <dc:title>PowerPoint Presentation</dc:title>
</cp:coreProperties>
</file>